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497C-B862-4E57-A49D-F65645B3D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7FAE-0E81-492E-8001-EA3497772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D8D-0FBC-4B0D-A663-AFA7DA60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F2F-6BAF-4BC0-A6CB-8ADF285D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7F6-0830-4385-9588-CBD10F91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9E0-B856-40F0-B25D-666BEBAF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DB1-5D26-4B82-A86A-6C6DE490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3DB-032E-47B3-A725-1BC36A0E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B12-26B3-4A60-8FA8-267D287B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A6C-FD51-4552-A7F9-3F5DE2A4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BB1-8054-4A73-8A2F-2E4C2F3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1F0-324B-4C76-9BE1-ABA953C9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B02-A988-4650-9CF0-EFF05BE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E12-7CDE-4EE3-8868-3B8B064C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2F3C-7EFC-494F-94B0-2715826D0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hahmina Ha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hahmina Hami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os días mi amigas.  Come est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700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05320"/>
            <a:ext cx="1752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Rhahmina. Vivo en NY. Yo tengo catorce años.  Yo soy simpática. Yo tengo tres  hermanos, son fastidioso.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4876920"/>
            <a:ext cx="5680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743040" y="4876920"/>
            <a:ext cx="54288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95000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7:05Z</dcterms:modified>
  <cp:revision>104</cp:revision>
  <dc:subject/>
  <dc:title>Profile</dc:title>
</cp:coreProperties>
</file>